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10.png" ContentType="image/png"/>
  <Override PartName="/ppt/media/image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F54702-8FC1-4FA3-8C0F-843AC945E44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A695EC-69CF-4E96-B6F7-026CE701D16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7FCACD-9844-43AC-A9A3-88D4197DAC6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2C7-9CEC-4D5D-BCC1-8DA3E1B7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138-6F36-4160-871E-214DCCE7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AE0FA1-3E75-402D-B581-9C64E9F158E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54B3B-8198-47D5-B095-C247D98CC61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F330B6-FAC5-4621-93F7-E91BA8FB52A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73DF5-DCF6-41E0-B05A-D6787535617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6EEA99-C40F-43A5-9576-BBC9AB0B7B5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A32F12-D7EF-4068-B57C-CC1D41A0FD5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44C63-C50B-4A90-BF2C-1C277E510E6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A08B59-2797-41A8-8A93-D144B9AC0F9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46699-417C-45FD-8C73-46ACFAC55A2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45DFC8-7A25-4B3A-877D-DF121DA5F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D1C-E078-45F5-B15E-D6CD4AFC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32232F-F9EA-403A-BDB5-2D9719D10F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D75AA2-83C2-493A-8CC7-B615FB2EA46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2E5D6-F7D6-4E34-ADD9-7FA5059EAF8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08D9F-60B0-4CAF-868D-C34014A6D33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D62239-5B14-4ADD-B3FB-C340074725A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486F06-FA9F-4749-A553-4631C558A2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B12A3-DFFA-48F7-B4C0-E13EB400437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2C97EE-B438-4FA1-87E5-C15EC8CA06D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0FD87E-91FF-4F05-9AB3-A9970CFCA5E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4CB883-F105-47C5-93E5-80899CC35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D68-0E90-4B81-9BC2-66ED0721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442574-DC42-4D1F-9836-0744FA6AC21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638F-D2AF-433A-8849-3A374A98346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AAD5-3329-4C0E-87DA-B46B1BCFD7D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7598A-C427-41B8-82E5-732B46B5479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B4EA5-8263-4243-BCC4-B3F13A019FA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94587-20D0-467B-B06F-A86DFA984DF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5887-822C-44CC-BABF-8983443B18D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6D1BF-E260-4001-B677-AAB16488445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0CF93-8C11-4503-9557-AA6D19B1056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EE497-F0F3-41A0-A219-6F29E5B26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9DBB7-4D44-42AE-9371-DF410D3EC8C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67509-0E3F-4C1F-BC7F-7BE7DC73787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A8E41-337E-449A-A1D1-E582A3D1A11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5F8465-BEF0-42C3-BDB7-74BEE0B1ABC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96D5DF-C621-4736-9B4D-258A76D34C4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B46851-09B6-4B08-B2DE-4466FE739B6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2C9C3B-7D05-473F-83EA-6EE73F31D2D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FDF730-8F63-4E58-BC43-7694B5ED856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3FD2EA-415A-48D3-8538-A40B9E30F94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DFC245-F307-402C-913E-5523CEBB10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6CB144-AEFE-4174-9209-FAD9C9A6DC6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CCE9B5-C3E6-4184-8CFF-362A387B138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92DD02-236B-423D-82A6-8693765B240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765379-F5F8-4E89-AC80-34869C9C466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8E91B6-33FF-4786-A0D7-9A965B8CDED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BE90C-9330-4A4D-A662-9849F779893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48D44-7728-4EF3-A43F-E01033103A9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D2F39-C7B0-4067-A41D-BB39D63EC8F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54A86B-51DF-4D12-BF65-2972BEC378F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47A29-9874-4F7A-A39F-E007B1B302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D9104-FECF-4F52-A707-01469B76B4B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39B0A-CF1E-4446-8543-05C8B6A1B13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AB8AD-10B2-42E5-9EC1-B7F0F4A83F0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E2E68-57A4-492B-9D28-DA5D68A4A3A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51344-5164-4744-A86F-F207EC70053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6B07B1-E9B1-4419-81DE-720D9CFDB82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1ACC0-5E0C-4892-89E5-4E28521AEF8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81E69-8D32-4039-AF46-70D9129591F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1B5DA-0E86-4D5D-82AF-12C6F5DD5BD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A24AF-2BDA-48BC-BB8D-980430B6B8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B9BC9-F94F-4B38-9D0A-E007E0F068B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1A98D-EBF6-4C3F-8B75-66DBF1B6C75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CBD10-6659-47E9-A5F9-7373E5578E3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BBF24-09A7-44E4-92CD-F3BA15866DE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EF9AD-A4A1-4367-8F0B-026026FC0C2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50CDF-1AEF-46F4-A8D0-45BCD1782D0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55FB3-7498-4D1D-BFFD-2CBFFE53656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7D840-1EB5-4930-96BA-2582ECC562B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DA576-6DC0-4EB3-B37B-5604BA3EBB4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CF103E-BCA9-4A7B-81ED-7FA13D1046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FE497B-C1E5-47C6-A525-368561412ED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591CD4-F821-43BF-A489-F7C5E002F5A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67CA37-6866-4EB0-B7FB-7F2DA5C4BFF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D21B75-15BE-4557-9DE2-D48A51A2AEF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19E080-B62E-4027-99F8-D7854092B30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70CAE3-E6E2-4065-8682-5EFDB2BE0B0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D137A3-DD70-45A8-AA4B-4A408B0A4FB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3C7F0A-0136-48E2-A1C7-6625443A8EB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621B0B-E257-41FD-8EC5-2D768A03B29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316C7C-B474-4EFB-9757-C58C275A8B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E5D166-A59E-4C0D-A288-5C00E1F4BF7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B08503-FF31-4FAC-94B6-5DE40FBAD1F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6F596-DA0E-4725-8AD7-0D559D45A2C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EF815-9E75-45E7-AFD2-B4CE5CAA068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AEDB90-99BE-45B3-B9EE-CF3C5171023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A4323-377C-494F-8835-488B6A46FEC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C1E2E-E727-4966-8E72-AAE4051808B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05F60-5F16-4857-838F-CB2022C4A10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943D5-DE9C-4C69-94FE-9410738C0CA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AE794-628D-495A-8406-A880691AAD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0D2C50-CE66-4C3D-8C9A-10C132DA074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A0C68-AF43-4B79-AFD1-2E9C67CC463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50285-9082-4264-9F40-4E7C2E679F9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9F5-9DF0-456E-B040-B93BA536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1A5B7-60C5-4BFE-B733-E828125B23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E9EB1-5FA7-4282-BE29-D1885A7A6C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D5253-CBEB-450C-BD9A-EA6A3B3506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33C42-15C2-4C9C-8D9B-64053CDE13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97CDD-D00B-401B-BB2C-ABA130BE21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F85-5E4E-460C-84B3-4E832DEC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2361F-BB5A-4C06-9B98-8FCB12F0A78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AE956-1906-4E29-B378-F05F63317F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42D06-F452-4395-BF0A-B1C1CB7084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230E4-AF7F-4D62-94DB-2279F6BB17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3DA39-1270-439E-9457-9C6B84F8A5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16AC0-C25E-4D3E-B735-6E28C0A6A0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D3BFD-B4A6-4C06-BD43-CBCE6D0929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60D79-D0B8-41AE-A1AB-EB4A40FD0C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F287A-08B9-4328-8476-C17CCE6B26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9B791-6F71-4C85-BB98-DA22CF2C1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49A-E5C0-4557-942E-1ABB0676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8A0BF-9BB9-4C2E-B371-100442F548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09B9A-4F16-423F-890D-92981DC89B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19779-1D1A-4B93-B38F-A2F9E25BED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2C05D-0515-4310-825C-096293CBE3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CA449-0A9E-4C87-97DC-662CADEDA8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EA5E9-CD03-4299-B419-837CCD0A4D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37B8D-4ED2-47A0-B4AE-1284AF1C67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BE061-E315-4759-8374-D9DC374FAA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B4E21-F2C1-465D-9071-DD9FA3587F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C85E-40AF-4646-8842-C9420B889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C2A-D0AA-4E76-8306-E1FED3BF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55A0-7A1D-4E67-A831-0868DAF248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34F3-DC92-4417-8961-0C70C4B449A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DE40-CC38-4829-9C7B-9FE32E5DC4C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2954-FC04-48D8-BC36-0383DD18C27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9A28-71E8-4ED9-8372-38F45276EB5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6BC7-2836-4C02-A518-B55EDFA1654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B205-98EE-4BCA-A73B-4EC1EF649B3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F7CA-FE3A-4FEA-87D9-785DA4DFA84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E342-AF68-4C85-9190-79385598EB7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217C-835E-414A-8C14-8C751892C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3B38-916E-406A-9759-C8943CE8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5D6A-961E-45C3-AB7C-95F19247689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2B4977-36F9-4710-912C-C520C0FC1C3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18095C-016E-4682-BBB4-0B4770397B4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692F9B-74D8-4C35-81D1-6D506D0793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8D5E9-B8A7-4063-8761-2861D12B105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D896C3-2EF2-49DF-8551-40444D8D56B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AC5656-CCD2-45C4-9965-F75B9B74C99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3D4C8D-695D-4F80-93AC-6F4A0F8D5E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39A230-B8CA-4E5A-A231-658885F894A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A68E2-8EBD-4498-B3E4-6D3B31A83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CE3-0ECF-4794-B7E5-09D0C0A0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F0A5C3-8F2E-48F9-B2AC-37FF3708F8B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5F787-16F7-4D90-9307-70DE5E34FE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3B95E3-8258-4C22-B90E-45880055A6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DA948C-E42F-4A39-A4A2-E8D0325D8E6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FE9E0-DBDD-4A8B-95C4-A7DC7AC46E5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7BD98-0A35-4919-B592-9FF54310E0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B970C-1B75-4F58-AED5-3BAB0C31D0B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CC30B-BACD-4559-B2B7-E9C03EC9E47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C8AE3-B45F-402D-B7E5-0CBB6759D8C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E1F71-65FF-4336-B92C-11CB40169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787-01F3-4327-81EC-F5A5AE85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BDF0C-DA7B-4AB3-98EE-A1EF7453BEE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1562B-FAF6-4606-A243-3B255926D2A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0CB90-55E0-4C42-A88A-7DAC8AD7DE2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74586-0659-42D3-9848-33317A2A537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AE5D7-696E-49E7-AD09-789C086A765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E7D9-4C91-4223-A50A-1A0C9C77CC1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5B22-F9DB-4121-ABCD-A6CB926FE87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97A8A-D6DC-4EC8-AB19-B1C295F57B1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17D6B-5C4A-4AB2-A4EC-807CEEAF890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B87F-23FF-4036-9B62-B19B315A6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4CA-79CD-4B1C-9D7C-834298F3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EADA-A340-45A6-AFEC-C433AC88FE2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452B-036D-4B35-AA3D-DE895F67382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0B487-F4D0-4232-945D-8EB61471F54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08574-096F-4F15-BD64-0BEB66EC57F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38B48-84DB-44FF-8EA2-EC68BB1C2D8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E86C9-14BA-477D-9AC7-841DCB3A2A8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E02C-C1EC-4821-9E4E-A5FFDC134AD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6D93E-5076-4093-954C-F84369EF12E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F1E99-7E51-4921-8B74-6E1E42EF6F6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800993-6EFD-42B4-ACD7-713A4DCE0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5BF5D12-5007-4C05-8280-8E0C4E69139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0E542A-0A2D-4318-9491-03696D7D71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5CBC37-505E-41C1-9622-1382DCCE7B7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3D2BB87-DACB-462E-9EDE-1FAF78A55BF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9E4E7A9-A2EC-43A4-AEC6-009F1B61FE9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262E36F-0232-492A-AC74-29FAB0F88E3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F1502C-29E8-4CD4-A4AE-59DF1E8357B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D45C67E-449C-411B-9067-BFF84F82E38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197C049-9BFF-4FC9-864C-0C5873EE064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DA9347-F2B2-443C-A375-841C69B45C4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5DA34B0-3F13-4D54-87B9-04EDBF3E55D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5E68CC6-D599-47DF-895F-3AC0495D877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AD5B9F-27A7-4609-9D25-5CF6AF88F27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6812429-F6E5-4061-B43A-CE4EF9B6420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7B03D4-D44A-4658-8B3D-8921E106F82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06C6E98-9DFE-4AD6-8A39-57C8EC465F3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2208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sagatavo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šu pieteikumu sagatavošana un iesniegšana Espresso sistē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4300560"/>
            <a:ext cx="5829120" cy="666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5. gada 27. augustā, plkst. 11:00 un 15: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F995CB-5B55-4AFC-BB83-449A2ADC87E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b050"/>
                </a:solidFill>
                <a:latin typeface="Verdana"/>
                <a:ea typeface="Verdana"/>
              </a:rPr>
              <a:t>Par studiju vizītēm – jaunu projektu veidu Nordplus Jauniešu apakšprogrammā -  atsevišķs seminārs 28.08.25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Box 10"/>
          <p:cNvSpPr/>
          <p:nvPr/>
        </p:nvSpPr>
        <p:spPr>
          <a:xfrm>
            <a:off x="250920" y="3706920"/>
            <a:ext cx="3465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Calibri"/>
              </a:rPr>
              <a:t>https://www.viaa.gov.lv/lv/jaunums/notiks-tiessaistes-seminari-par-nordplus-2025-gada-studiju-vizisu-konkurs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2" descr=""/>
          <p:cNvPicPr/>
          <p:nvPr/>
        </p:nvPicPr>
        <p:blipFill>
          <a:blip r:embed="rId1"/>
          <a:stretch/>
        </p:blipFill>
        <p:spPr>
          <a:xfrm>
            <a:off x="3022560" y="2103480"/>
            <a:ext cx="58165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" descr=""/>
          <p:cNvPicPr/>
          <p:nvPr/>
        </p:nvPicPr>
        <p:blipFill>
          <a:blip r:embed="rId1"/>
          <a:stretch/>
        </p:blipFill>
        <p:spPr>
          <a:xfrm>
            <a:off x="3179880" y="1238400"/>
            <a:ext cx="5816520" cy="5238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rdplus datubāzē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pliecinājuma vēstules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, kuras jāparaksta visu projektā iesaisīt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8E5901-6833-425E-A938-3E6528A4A60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2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3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4" name="Title 1"/>
          <p:cNvSpPr/>
          <p:nvPr/>
        </p:nvSpPr>
        <p:spPr>
          <a:xfrm>
            <a:off x="259092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b7d91"/>
                </a:solidFill>
                <a:latin typeface="Verdana"/>
                <a:ea typeface="Verdana"/>
              </a:rPr>
              <a:t>Projektā iesaistītās organizācijas – koordinators un partne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4" descr=""/>
          <p:cNvPicPr/>
          <p:nvPr/>
        </p:nvPicPr>
        <p:blipFill>
          <a:blip r:embed="rId1"/>
          <a:stretch/>
        </p:blipFill>
        <p:spPr>
          <a:xfrm>
            <a:off x="4673520" y="3238560"/>
            <a:ext cx="3152880" cy="320364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2" descr=""/>
          <p:cNvPicPr/>
          <p:nvPr/>
        </p:nvPicPr>
        <p:blipFill>
          <a:blip r:embed="rId2"/>
          <a:stretch/>
        </p:blipFill>
        <p:spPr>
          <a:xfrm>
            <a:off x="3878280" y="-214200"/>
            <a:ext cx="5478480" cy="317160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, ja nav, tad jāpievieno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9" name="Left Arrow 13"/>
          <p:cNvSpPr/>
          <p:nvPr/>
        </p:nvSpPr>
        <p:spPr>
          <a:xfrm rot="16200000">
            <a:off x="5375160" y="2305080"/>
            <a:ext cx="1666800" cy="355320"/>
          </a:xfrm>
          <a:prstGeom prst="leftArrow">
            <a:avLst>
              <a:gd name="adj1" fmla="val 50000"/>
              <a:gd name="adj2" fmla="val 5453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196920"/>
            <a:ext cx="6095880" cy="776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Sagatavošanas vizītes aprak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itle 1"/>
          <p:cNvSpPr/>
          <p:nvPr/>
        </p:nvSpPr>
        <p:spPr>
          <a:xfrm>
            <a:off x="1128600" y="1914480"/>
            <a:ext cx="70423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Rokasgrāmata, 43. lpp (pdf),  sadaļa  «The Application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2" descr=""/>
          <p:cNvPicPr/>
          <p:nvPr/>
        </p:nvPicPr>
        <p:blipFill>
          <a:blip r:embed="rId1"/>
          <a:stretch/>
        </p:blipFill>
        <p:spPr>
          <a:xfrm>
            <a:off x="1128600" y="3162240"/>
            <a:ext cx="7375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tretch/>
        </p:blipFill>
        <p:spPr>
          <a:xfrm>
            <a:off x="2389320" y="919080"/>
            <a:ext cx="6254640" cy="501984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8E66FE1-03A3-4C17-BF05-634447615D2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Īsi jāapraksta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paredzamā  projekta iecer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Straight Arrow Connector 12"/>
          <p:cNvCxnSpPr/>
          <p:nvPr/>
        </p:nvCxnSpPr>
        <p:spPr>
          <a:xfrm>
            <a:off x="1958760" y="220932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Picture 7" descr=""/>
          <p:cNvPicPr/>
          <p:nvPr/>
        </p:nvPicPr>
        <p:blipFill>
          <a:blip r:embed="rId1"/>
          <a:srcRect l="0" t="6263" r="0" b="0"/>
          <a:stretch/>
        </p:blipFill>
        <p:spPr>
          <a:xfrm>
            <a:off x="3405240" y="933480"/>
            <a:ext cx="4903560" cy="4375080"/>
          </a:xfrm>
          <a:prstGeom prst="rect">
            <a:avLst/>
          </a:prstGeom>
          <a:ln w="0">
            <a:noFill/>
          </a:ln>
        </p:spPr>
      </p:pic>
      <p:sp>
        <p:nvSpPr>
          <p:cNvPr id="798" name="Title 1"/>
          <p:cNvSpPr/>
          <p:nvPr/>
        </p:nvSpPr>
        <p:spPr>
          <a:xfrm>
            <a:off x="0" y="1943280"/>
            <a:ext cx="284940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apraksta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Vizītes darba kārtībai jābalstās uz projekta pieteikuma plānoša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mērķi, uzdevumi, rezultāti, norise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"/>
          <p:cNvPicPr/>
          <p:nvPr/>
        </p:nvPicPr>
        <p:blipFill>
          <a:blip r:embed="rId1"/>
          <a:srcRect l="0" t="8694" r="0" b="0"/>
          <a:stretch/>
        </p:blipFill>
        <p:spPr>
          <a:xfrm>
            <a:off x="3948120" y="549360"/>
            <a:ext cx="4456080" cy="3079800"/>
          </a:xfrm>
          <a:prstGeom prst="rect">
            <a:avLst/>
          </a:prstGeom>
          <a:ln w="0">
            <a:noFill/>
          </a:ln>
        </p:spPr>
      </p:pic>
      <p:sp>
        <p:nvSpPr>
          <p:cNvPr id="80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0521D24-0248-4AA9-870C-87E51E177CF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9"/>
          <p:cNvCxnSpPr/>
          <p:nvPr/>
        </p:nvCxnSpPr>
        <p:spPr>
          <a:xfrm flipH="1">
            <a:off x="4258800" y="2095200"/>
            <a:ext cx="16560" cy="2265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2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8" descr=""/>
          <p:cNvPicPr/>
          <p:nvPr/>
        </p:nvPicPr>
        <p:blipFill>
          <a:blip r:embed="rId2"/>
          <a:stretch/>
        </p:blipFill>
        <p:spPr>
          <a:xfrm>
            <a:off x="3208320" y="4361040"/>
            <a:ext cx="38289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"/>
          <p:cNvPicPr/>
          <p:nvPr/>
        </p:nvPicPr>
        <p:blipFill>
          <a:blip r:embed="rId1"/>
          <a:srcRect l="0" t="0" r="0" b="76419"/>
          <a:stretch/>
        </p:blipFill>
        <p:spPr>
          <a:xfrm>
            <a:off x="4597560" y="4807080"/>
            <a:ext cx="3828960" cy="720720"/>
          </a:xfrm>
          <a:prstGeom prst="rect">
            <a:avLst/>
          </a:prstGeom>
          <a:ln w="0">
            <a:noFill/>
          </a:ln>
        </p:spPr>
      </p:pic>
      <p:sp>
        <p:nvSpPr>
          <p:cNvPr id="805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itle 1"/>
          <p:cNvSpPr/>
          <p:nvPr/>
        </p:nvSpPr>
        <p:spPr>
          <a:xfrm>
            <a:off x="100080" y="4184640"/>
            <a:ext cx="34480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u apliecinājuma vēstules (tai skaitā arī no savas organizācijas)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7" name="Straight Arrow Connector 6"/>
          <p:cNvCxnSpPr/>
          <p:nvPr/>
        </p:nvCxnSpPr>
        <p:spPr>
          <a:xfrm>
            <a:off x="2827440" y="4327200"/>
            <a:ext cx="1745280" cy="626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8" name="Picture 2" descr=""/>
          <p:cNvPicPr/>
          <p:nvPr/>
        </p:nvPicPr>
        <p:blipFill>
          <a:blip r:embed="rId2"/>
          <a:srcRect l="0" t="15722" r="0" b="0"/>
          <a:stretch/>
        </p:blipFill>
        <p:spPr>
          <a:xfrm>
            <a:off x="2749680" y="2050920"/>
            <a:ext cx="567684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Straight Arrow Connector 8"/>
          <p:cNvCxnSpPr/>
          <p:nvPr/>
        </p:nvCxnSpPr>
        <p:spPr>
          <a:xfrm>
            <a:off x="1714320" y="2827440"/>
            <a:ext cx="1410120" cy="10166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11" name="Straight Arrow Connector 11"/>
          <p:cNvCxnSpPr/>
          <p:nvPr/>
        </p:nvCxnSpPr>
        <p:spPr>
          <a:xfrm>
            <a:off x="2095200" y="502416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12" name="Picture 2" descr=""/>
          <p:cNvPicPr/>
          <p:nvPr/>
        </p:nvPicPr>
        <p:blipFill>
          <a:blip r:embed="rId1"/>
          <a:srcRect l="0" t="9362" r="0" b="0"/>
          <a:stretch/>
        </p:blipFill>
        <p:spPr>
          <a:xfrm>
            <a:off x="3124080" y="2827440"/>
            <a:ext cx="563904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0FD038-C70C-4BF5-B976-9E2BEF14634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itle 1"/>
          <p:cNvSpPr/>
          <p:nvPr/>
        </p:nvSpPr>
        <p:spPr>
          <a:xfrm>
            <a:off x="0" y="1943280"/>
            <a:ext cx="2332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tiks pārskaitīts piešķirtais finansējum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Pie bankas rekvizītiem – «Your reference» ir organizācijas iekšējais identifikators (ja tāds ir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  <p:cxnSp>
        <p:nvCxnSpPr>
          <p:cNvPr id="816" name="Straight Arrow Connector 2"/>
          <p:cNvCxnSpPr/>
          <p:nvPr/>
        </p:nvCxnSpPr>
        <p:spPr>
          <a:xfrm>
            <a:off x="2158560" y="4808160"/>
            <a:ext cx="5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Nordic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itle 1"/>
          <p:cNvSpPr/>
          <p:nvPr/>
        </p:nvSpPr>
        <p:spPr>
          <a:xfrm>
            <a:off x="106200" y="2120760"/>
            <a:ext cx="2476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2" descr=""/>
          <p:cNvPicPr/>
          <p:nvPr/>
        </p:nvPicPr>
        <p:blipFill>
          <a:blip r:embed="rId1"/>
          <a:stretch/>
        </p:blipFill>
        <p:spPr>
          <a:xfrm>
            <a:off x="2583000" y="1582560"/>
            <a:ext cx="62276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0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tālr.  29554403 (GSM, WhatsApp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VIAA sagatavotajiem materiāliem latviešu valodā ir </a:t>
            </a:r>
            <a:r>
              <a:rPr b="1" lang="lv-LV" sz="1900" spc="-1" strike="noStrike" u="sng">
                <a:solidFill>
                  <a:srgbClr val="ff0000"/>
                </a:solidFill>
                <a:uFillTx/>
                <a:latin typeface="Calibri"/>
                <a:ea typeface="Verdana"/>
              </a:rPr>
              <a:t>informatīvs un paskaidrojošs raksturs</a:t>
            </a:r>
            <a:r>
              <a:rPr b="1" lang="lv-LV" sz="1900" spc="-1" strike="noStrike">
                <a:solidFill>
                  <a:srgbClr val="ff0000"/>
                </a:solidFill>
                <a:latin typeface="Calibri"/>
                <a:ea typeface="Verdan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cējiem ir saistoši dokumenti, kas publicēti angļu valodā  </a:t>
            </a: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www.nordplusonline.org un norādījumi projekta pieteikuma veidlap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Content Placeholder 1" descr=""/>
          <p:cNvPicPr/>
          <p:nvPr/>
        </p:nvPicPr>
        <p:blipFill>
          <a:blip r:embed="rId1"/>
          <a:stretch/>
        </p:blipFill>
        <p:spPr>
          <a:xfrm>
            <a:off x="2901960" y="1695600"/>
            <a:ext cx="5907240" cy="40719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5924520" y="3772080"/>
            <a:ext cx="3156120" cy="957240"/>
          </a:xfrm>
          <a:prstGeom prst="rect">
            <a:avLst/>
          </a:prstGeom>
          <a:ln w="0">
            <a:noFill/>
          </a:ln>
        </p:spPr>
      </p:pic>
      <p:sp>
        <p:nvSpPr>
          <p:cNvPr id="749" name="Title 1"/>
          <p:cNvSpPr/>
          <p:nvPr/>
        </p:nvSpPr>
        <p:spPr>
          <a:xfrm>
            <a:off x="-165240" y="2860560"/>
            <a:ext cx="30164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388440" y="1635120"/>
            <a:ext cx="85870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0" lang="lv-LV" sz="2800" spc="-1" strike="noStrike">
                <a:solidFill>
                  <a:srgbClr val="002060"/>
                </a:solidFill>
                <a:latin typeface="Verdana"/>
                <a:ea typeface="Verdana"/>
              </a:rPr>
              <a:t>Espresso sistēma - </a:t>
            </a:r>
            <a:r>
              <a:rPr b="0" lang="lv-LV" sz="28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hkdir.no</a:t>
            </a:r>
            <a:r>
              <a:rPr b="0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/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2" descr=""/>
          <p:cNvPicPr/>
          <p:nvPr/>
        </p:nvPicPr>
        <p:blipFill>
          <a:blip r:embed="rId1"/>
          <a:stretch/>
        </p:blipFill>
        <p:spPr>
          <a:xfrm>
            <a:off x="517680" y="2470320"/>
            <a:ext cx="7702560" cy="329544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eft Arrow 6"/>
          <p:cNvSpPr/>
          <p:nvPr/>
        </p:nvSpPr>
        <p:spPr>
          <a:xfrm rot="1692600">
            <a:off x="5667120" y="483984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393560"/>
            <a:ext cx="6870600" cy="74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>
                <a:solidFill>
                  <a:srgbClr val="1f4e79"/>
                </a:solidFill>
                <a:latin typeface="Calibri"/>
                <a:ea typeface="Verdana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1" descr=""/>
          <p:cNvPicPr/>
          <p:nvPr/>
        </p:nvPicPr>
        <p:blipFill>
          <a:blip r:embed="rId1"/>
          <a:srcRect l="0" t="24891" r="0" b="0"/>
          <a:stretch/>
        </p:blipFill>
        <p:spPr>
          <a:xfrm>
            <a:off x="4025880" y="4721400"/>
            <a:ext cx="4660920" cy="20412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2660760" y="2238480"/>
            <a:ext cx="4916520" cy="2036520"/>
          </a:xfrm>
          <a:prstGeom prst="rect">
            <a:avLst/>
          </a:prstGeom>
          <a:ln w="0">
            <a:noFill/>
          </a:ln>
        </p:spPr>
      </p:pic>
      <p:cxnSp>
        <p:nvCxnSpPr>
          <p:cNvPr id="758" name="Straight Arrow Connector 4"/>
          <p:cNvCxnSpPr/>
          <p:nvPr/>
        </p:nvCxnSpPr>
        <p:spPr>
          <a:xfrm>
            <a:off x="5638320" y="3633840"/>
            <a:ext cx="1080" cy="12708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0" y="1882800"/>
            <a:ext cx="9144000" cy="3924360"/>
          </a:xfrm>
          <a:prstGeom prst="rect">
            <a:avLst/>
          </a:prstGeom>
          <a:ln w="0">
            <a:noFill/>
          </a:ln>
        </p:spPr>
      </p:pic>
      <p:sp>
        <p:nvSpPr>
          <p:cNvPr id="761" name="Left Arrow 6"/>
          <p:cNvSpPr/>
          <p:nvPr/>
        </p:nvSpPr>
        <p:spPr>
          <a:xfrm rot="8365800">
            <a:off x="1991880" y="6081840"/>
            <a:ext cx="3019320" cy="529920"/>
          </a:xfrm>
          <a:prstGeom prst="leftArrow">
            <a:avLst>
              <a:gd name="adj1" fmla="val 50000"/>
              <a:gd name="adj2" fmla="val 545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091960" y="415440"/>
            <a:ext cx="6095880" cy="776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zvēlamies apakšprogrammu, kurā iesniegsim sagatavošanas vizītes pieteikum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3" descr=""/>
          <p:cNvPicPr/>
          <p:nvPr/>
        </p:nvPicPr>
        <p:blipFill>
          <a:blip r:embed="rId2"/>
          <a:stretch/>
        </p:blipFill>
        <p:spPr>
          <a:xfrm>
            <a:off x="77760" y="18144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0F9FD6E-927E-4653-8393-8DF9E9EF6D3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590920" cy="22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2" descr=""/>
          <p:cNvPicPr/>
          <p:nvPr/>
        </p:nvPicPr>
        <p:blipFill>
          <a:blip r:embed="rId1"/>
          <a:stretch/>
        </p:blipFill>
        <p:spPr>
          <a:xfrm>
            <a:off x="2495520" y="237960"/>
            <a:ext cx="60897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2BABB46-2309-453D-9612-33099CD8B64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-360" y="1942920"/>
            <a:ext cx="2801880" cy="14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 – šajā gadījumā – 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i («Preparatory visit») 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Picture 7" descr="A screenshot of a computer&#10;&#10;Description automatically generated"/>
          <p:cNvPicPr/>
          <p:nvPr/>
        </p:nvPicPr>
        <p:blipFill>
          <a:blip r:embed="rId1"/>
          <a:srcRect l="8189" t="15003" r="56997" b="25478"/>
          <a:stretch/>
        </p:blipFill>
        <p:spPr>
          <a:xfrm>
            <a:off x="3143160" y="228600"/>
            <a:ext cx="5391360" cy="5761080"/>
          </a:xfrm>
          <a:prstGeom prst="rect">
            <a:avLst/>
          </a:prstGeom>
          <a:ln w="0">
            <a:noFill/>
          </a:ln>
        </p:spPr>
      </p:pic>
      <p:cxnSp>
        <p:nvCxnSpPr>
          <p:cNvPr id="771" name="Straight Arrow Connector 9"/>
          <p:cNvCxnSpPr/>
          <p:nvPr/>
        </p:nvCxnSpPr>
        <p:spPr>
          <a:xfrm>
            <a:off x="2090520" y="3230640"/>
            <a:ext cx="1532520" cy="169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2" name="Title 1"/>
          <p:cNvSpPr/>
          <p:nvPr/>
        </p:nvSpPr>
        <p:spPr>
          <a:xfrm>
            <a:off x="54000" y="4772160"/>
            <a:ext cx="20368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</a:t>
            </a: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Studiju vizīte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r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cits projektu veids (seminārs 28.08.25.)</a:t>
            </a: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Straight Arrow Connector 12"/>
          <p:cNvCxnSpPr/>
          <p:nvPr/>
        </p:nvCxnSpPr>
        <p:spPr>
          <a:xfrm>
            <a:off x="1662120" y="5106600"/>
            <a:ext cx="1961280" cy="8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24-09-17T09:25:17Z</cp:lastPrinted>
  <dcterms:modified xsi:type="dcterms:W3CDTF">2025-08-27T10:52:01Z</dcterms:modified>
  <cp:revision>189</cp:revision>
  <dc:subject/>
  <dc:title>PowerPoint Presentation</dc:title>
</cp:coreProperties>
</file>